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437-86E2-4D5E-8698-159CF456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0AD-A84B-4421-A5E0-BFA25566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D4C-6051-4122-97BA-7758AF72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80C-8B6A-4B1A-A864-3196D403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252-CC51-433B-9514-B4AC6040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217-87E1-4F1C-8F6F-4D14F00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B0B-0397-41C3-A431-2DA8CC03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F49-EC41-41DA-ABEA-0DB089C9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C02-BA22-4541-AC32-01146B39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895-5ACC-44D3-84A4-131A0CA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716-0603-4007-8945-5B0CDB2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557-C9C8-41DB-BF3A-2B4A66E7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294A-A05A-4004-859D-538CF792C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nh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3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s juegan en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pi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s son populares en Estados Uni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de los deportes te gust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no te gust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 partido de futb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,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Comprend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3829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area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26:59Z</dcterms:created>
  <dc:creator>Helen Zumaeta</dc:creator>
  <dc:description/>
  <dc:language>en-US</dc:language>
  <cp:lastModifiedBy>Helen Zumaeta</cp:lastModifiedBy>
  <dcterms:modified xsi:type="dcterms:W3CDTF">2013-02-14T17:30:48Z</dcterms:modified>
  <cp:revision>19</cp:revision>
  <dc:subject/>
  <dc:title>Me llamo ______   Clase 7 Im La fecha es el 3 de febrero del 2011</dc:title>
</cp:coreProperties>
</file>